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5B1-C0B9-44F2-8DFA-099F08B2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6A37-F008-4D98-92EC-4CD6907C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54C-7046-43EB-8D6F-D3754776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BB5-BFFC-4A10-B1D8-075026FD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CAE8-C328-46E2-8A76-C59B7EAB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4175-8B4E-4526-9F6A-71431766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729-6C10-4F8B-8A6F-F956C6CF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E824-6722-4922-B82D-70252F6F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CEC0-C0E0-4844-8EDD-93BBF36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C401-80AD-46F0-B39F-0C4EDD80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EB3D-6FFA-4E8B-9473-60E2444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22CE-7924-42D4-9DF1-EEA5EE79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A0E2-0635-47AF-9626-9E8D2055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4800-1279-4112-9201-B552AC9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1F90-A201-4253-9195-3B014CFE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91C0-0A43-4FA7-889F-A4A05263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D3E7-602A-401F-BE37-380E200E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CAD-933B-44FE-B521-6EC7AD1A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CA5-4E1C-48AD-9214-63D8507F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8A6-A36A-48C1-87B4-B03CBC07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174-DDA4-44A3-9564-B13AD840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D10-9FFA-4F1B-915A-9526A46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BF9-8F6B-4B7A-8DDB-4E11B92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920-0EEC-46A6-A3AA-547A62B5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235F-A519-4EE7-A357-22B242416B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656A-D645-4B1B-95F4-3572066581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ality P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gan as part of church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ed well to pass on church teaching when most of the population was illite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dicated the struggle between good and evil, virtue and v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05520" y="2514600"/>
            <a:ext cx="3138480" cy="286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ality P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76360" y="13716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ntually lost connection with the church and became entertai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uld travel from town to tow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plays were written anonymously (humility was a virtue at the ti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2597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rality P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 the dilemmas faced by the average person trying to lead a moral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are often abstractions that represent qualities of human nature (Charity, Greed, Lu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evolved into the form of drama popular in Shakespeare’s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8954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5:01:44Z</dcterms:created>
  <dc:creator>Titusville Area School Dist.</dc:creator>
  <dc:description/>
  <dc:language>en-US</dc:language>
  <cp:lastModifiedBy>Titusville Area School Dist.</cp:lastModifiedBy>
  <dcterms:modified xsi:type="dcterms:W3CDTF">2005-09-15T15:15:41Z</dcterms:modified>
  <cp:revision>2</cp:revision>
  <dc:subject/>
  <dc:title>Morality Plays</dc:title>
</cp:coreProperties>
</file>